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C1F5-1C13-4EE4-8051-3BA1FF895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E549-3FDE-40B4-B8CE-8F95EDE6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DF56B0-66BF-4C0D-BCEC-05BF6BD4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17BF4-5F41-4798-BD84-0D1F9C36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B65AD1-3D2F-4EB8-A24B-33417E20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D148A-94CD-4F3E-A8AF-2A44DE68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26B77-938A-4FC4-B642-CE2D9CAA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12501-1FDA-4B5C-B9F7-015B3FA7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C916AD-BA8E-464C-8811-381F1120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ABAA2-8B8E-4806-9E9D-8B32E0EEA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71647A-2F3D-4F2B-A583-3D13A24EB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5552A9-C40E-4C71-B824-62D358A5C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9113-81AD-4DBF-9A77-BE44B0E3D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A566E2-8EFE-4353-A2C1-0433CD88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1290EA-09EE-4A0C-9149-4B63BFD0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BC1B84-ED30-4FF1-87BA-39EA671C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36E316-6A1E-41CB-B775-6819D9C9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1FF8D9-3671-4CAC-8337-11148AC6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751B12-0AF3-438C-9689-3CE9B6A1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628DF-F68C-4A2F-B4AA-6A40D116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F5D74-4E11-4C8F-AF45-AF2691ED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852098-4867-4D46-A19C-6463978F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63F2E5-A557-4FB3-B73A-068775A2F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9610-696F-45ED-958F-89E925CA4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E25BC1-5BB3-4F98-B5D1-F7F9F2AF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1BF47-EF5A-4DF7-A9EA-9DAA84878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5CC6E-E2A8-47CD-BB91-1D020F95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F8F0B-91EB-4A8F-884C-3B4E45DC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DF829-E6D1-4D87-B4A4-50990566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DB68F-8F71-40A3-8999-9F134E48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8A46E-CF66-4133-AD29-12773C7B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4A245-19F6-46D3-A684-1612FB9E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FF9FC-EE9C-46C2-A262-AADAC2CC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DC80E-8F77-4923-8610-2271DA0A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73F5-3A4A-4616-BAD4-3224A9CEC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0D06B-C566-4E0C-B3B5-6617014D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0A919C-00FA-4FDF-8C48-542F6E477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28FEF-CBB9-459F-9A10-C8ADAF893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5C29F9-C3B3-47F0-9A89-D53B79DF3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011965-2015-44D2-917D-0903A87F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EAD226-A24B-4836-8CEB-A10F5B65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0BBE28-2442-44F5-B128-2C95667F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4B93D4-A1A4-4F64-8F51-C9E2C126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4787B-AB4A-4104-9856-2081AF97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5D048A-6D1C-4606-9F1E-A78E05D5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F1F8-CB21-412F-8CEC-83A54775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73AA80-4E02-4079-BFF4-9F5EC6D9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FC2E98-8FEE-416A-A00A-0CE5D21A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4E938-FBFF-449C-BCC7-D7A8FB00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742852-D953-4411-BCAF-D614DF4B8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4F042B-CA8D-4C34-A1A3-B659A08D6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91C4-4C61-4195-8BCC-4849D3E7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2AFB-F028-48C5-AE56-663DCDC7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201A-E837-4190-8D9B-B5A1D79D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E9C0-E246-490E-9DB8-B492FCDF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C259-956A-407A-85B8-87BE80C9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A021-44AF-41D4-8744-1E37933B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4B57-9C8D-428E-BE26-3C7A24A0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BE0F-69BE-40D3-9929-7BF1EE46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5082-8A89-4355-A974-F536C476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341C-A8B0-47DB-A35F-A76308D25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F967-14E7-47B0-A20D-BC8C1CD73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A8F86-0263-43C8-A780-472DCE4CC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2308F-FB03-4ACD-A7DC-BD0768CE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F9962-87A4-438F-879C-40BED76A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9E41F-365A-4925-AD1A-B5F6B0AB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0A453-5CEC-46A2-BC66-B4C7B6B9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146E-72CB-4E7D-A30B-622967ED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B4B83-0B9B-4467-876D-2B8F534B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F9941-47AC-452B-B092-BF314C06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7D804-DE78-4D81-B0F2-AED1EFAB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F2C66-8D7C-43BA-A2FD-C031A8E2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5ABBF-480E-460E-B27F-E6812922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8A3E7-0755-44CC-A554-EA6D8023E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B91E3-822A-4C20-981A-4740E7480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78198-0F33-4630-89D1-3AEDD2E8C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65268-8443-404C-B161-650F1C77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7CF32-C760-438E-94CF-E1E2FF6B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AC90-72A4-4654-90D0-16C548A0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77223-534D-4101-A797-2B09027A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0F5F9-EAB9-444F-B8F7-1E591CE5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F720E-BF5B-42CB-96B0-02EB21CC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2D6ED-2308-4C7E-A0D6-20E5CE1A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7670D-F521-414F-8DFD-CD522524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B0349-B4FE-4717-BC4B-9C09A8EB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CB455-F33F-4F53-8934-973BA8F0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17A72-4277-4897-B903-782919D31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31937-B170-417F-9E1F-37AB07511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397B0-8272-458D-9F4A-950B94A80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A897-FA61-47AA-885F-A4862177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2D6BD-D50C-41B5-B8A4-B8F44D50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EC201-947B-40A1-BED2-B270A846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2AA4E-706D-40E8-A9C2-E4825B79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5B5C4-2C02-4DA9-B69E-32F03001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17D8A-0966-4723-A506-56283315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D3656-AAB6-4D94-BF91-42D6E3B0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CE321-33CE-4D74-A9B8-4D2A6030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5DC88-5785-4092-8F7D-AF9404F5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9E67E-1BD8-4F81-9606-17BA282A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34DAD-4102-4537-8531-7490EA5C0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44F5-3F54-4BF1-9884-39843BAA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BCF80-E07E-43D8-9B91-4F687EB09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5DCB9-654E-43B3-8F90-8833546E1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9BECE-034F-4F3E-B196-D3B2D738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D6E97-B86C-4719-A53A-4695D1A4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48D15-BC56-42A4-851D-2A29BAED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81E5D-4348-4A38-8238-109760B9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7023A-6017-40E3-87CE-76B81905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EA96B-DDE8-4E45-8A6D-97DEA376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7B31E-EF56-4237-83C7-AF3F175B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97F11-EB13-44D2-9090-42131294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AD36-71FD-4E1D-8C2E-AEF6587E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31AA7-C90C-4D54-A74A-48670FE4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90549-1EF9-4166-A013-56808F7A6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FB041-B55A-41B6-A43F-9F7A6B194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D8C5E-5DDB-4AA1-BEE1-9F343B41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638C2-B176-43FA-B3BD-1227729A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28946-5981-42D0-97EE-4286FE4A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93AA5-C1E9-441F-9840-1CD7EA32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9E6EF-B4D4-4BE4-8C73-6A36E5B1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DD776-E0AB-4BDA-A5AE-8295EB70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A2677-E061-4B64-9186-B5094260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D4D8-1DAA-4862-AF8C-2B531F25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91B98-3F4F-4884-AB13-CC54FE8C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9721A-B327-4B48-8497-B97D3BBD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F94B6-1862-400F-8EC3-E8F5672E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C92AD-D01E-4624-8F69-CB71127CB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9641D-8DE0-440A-9B9B-828AC05F1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D6134-D6E4-463D-8A11-421BD4E2A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E01F8-06E9-42DC-BFB7-479A56DF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50F60-D9F2-4B5C-A0F6-82317C88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6F317-B94F-48F7-88F2-8207D240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DE926-28F0-4428-8549-1A2A63F6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00E1-2C21-4295-8E36-1AD9C6D7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CFDF2-5819-45D9-BA88-265CA3DD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65341-EAB6-424E-B316-7A2E66F0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CDA99-C7FD-41B8-89E1-B9A84099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9CE83-0634-4F9C-B142-045A91A0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72B0C-E56F-4481-A7D1-42F16971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138F4-2A49-4F09-A2F5-2E2D97178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FB04C-14A0-4C16-A3D3-26F773BCE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9214F9-9381-4363-A42A-4C86479EF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43EE5-F873-44F0-BEFB-178B0C1B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56AB5-4CEE-47B8-A292-4520D155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9B32-F6A5-4973-9455-3224B2F22EE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DB23-FDCE-436E-88D9-622C67331B5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BCAC-5CA8-4553-9CCC-DEBCADC5EFF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1ACF-582C-4BC3-B425-F3BEACFC3A6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9BEA-0394-4BAD-B9A5-10984A95DE2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E681-0C65-4280-94C8-FFD45BD7227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DE51-7479-4B27-A39C-33B877606A8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150E-C21A-43BB-9EF4-63E24FC1B7C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69DE-2142-47E7-80E9-5891489580B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E486-184D-4FE3-BE70-A57473990E7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0E68-F452-4284-BF58-4BF0590121B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D1E6-0DC4-481B-B78C-BA0B232C691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4 Vzdávajme Pánu Bohu čes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e sláviť Tvorcu svojh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lospevom radostný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velebovať lásku jeh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uchom vrúcnym, úprimný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1026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dávajme Pánu Boh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esť a chvál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 jeho sláv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et nech počuj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lebme lásk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žiu vernú, stál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rou nás hriešny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siaľ milu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e sláviť Tvorcu svojh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lospevom radostný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velebovať lásku jeh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uchom vrúcnym, úprimný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dávajme Pánu Boh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esť a chvál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Kristovi z lásk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lovekom sa stal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iež v srdci mám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ďačnosť neskonalú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viny naš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ám na seba vz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e sláviť Tvorcu svojh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lospevom radostný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velebovať lásku jeh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uchom vrúcnym, úprimný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dávajme Pánu Boh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esť a chvál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trí mu úct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rstva všetkého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Kristovi nám da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ásy vekov Skal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áchrany iste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laha večné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03T17:54:24Z</dcterms:modified>
  <cp:revision>10</cp:revision>
  <dc:subject/>
  <dc:title>Je veľký náš Pán, on slávy je Kráľ Nech do všetkých strán  spev vrúcnych znie chvál.</dc:title>
</cp:coreProperties>
</file>